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CB1-8474-43FE-A0F6-FA664A18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DB4-A7DA-4FB3-AEAB-38E5CC57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7D8-5B82-48D5-94C1-79A42B04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2AD-994E-4955-A468-2F9E6743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0DDF-DBDF-4A47-9AC7-4FCE36CA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1818-1D3F-481C-AFB6-B47B6F44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3CD5-6C55-4552-A464-BB80BB62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37E1-A4C1-464D-9C7E-D6CF6D18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A9F9-EAEA-4D1E-A0E9-721852AC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6B4D-5AB7-45E5-B935-6643E5C6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61CA-4132-42B9-B928-A5E2903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225-6403-4DAC-88B9-976A1D76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7323-5B5E-4816-966C-06957BE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C537-581C-4382-8ADC-68F13D17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A503-1DF3-4903-9435-1AC08833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9FF9-4772-4C72-BCE7-FD332DC6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F07C-4C3C-4109-8493-95F464AB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56B-2F09-4088-8362-1D8A41B5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336-D26A-4BC8-8B32-A50B7BB2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0AB-0E58-4920-9CF3-85F4C309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A79-6BF6-434D-8D50-18CBAFCC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C5A-4093-460E-8960-C6CF32CC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4D6-D745-46CE-9E30-C58EF495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A23-4CF9-4B7E-92B1-8690100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FE6-4037-4557-A6F3-2E521E694E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5"/>
                  </a:gs>
                  <a:gs pos="100000">
                    <a:srgbClr val="0000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e"/>
                  </a:gs>
                  <a:gs pos="50000">
                    <a:srgbClr val="00007a"/>
                  </a:gs>
                  <a:gs pos="100000">
                    <a:srgbClr val="00006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32B-882A-49D8-92CA-E3F068E99F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Alberta</a:t>
            </a:r>
            <a:endParaRPr b="0" lang="en-US" sz="9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3562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2273400" cy="3958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5103720" cy="40244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flipV="1">
            <a:off x="2771640" y="3213000"/>
            <a:ext cx="2448000" cy="93528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994200" y="549360"/>
            <a:ext cx="5149800" cy="352908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111640" cy="34084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356000" y="2684520"/>
            <a:ext cx="435636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4:04:14Z</dcterms:created>
  <dc:creator>Susanne Müller</dc:creator>
  <dc:description/>
  <dc:language>en-US</dc:language>
  <cp:lastModifiedBy>Susanne Müller</cp:lastModifiedBy>
  <dcterms:modified xsi:type="dcterms:W3CDTF">2009-09-27T14:15:55Z</dcterms:modified>
  <cp:revision>2</cp:revision>
  <dc:subject/>
  <dc:title>Alberta</dc:title>
</cp:coreProperties>
</file>